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3B4-D80E-497C-B2FE-BEBAD014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8D5-3FF9-4DBE-8117-F50BC2E5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EE4-1168-4D61-9C90-EF377FCB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5625-78F9-45D8-9D1E-03F5AAF9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5A6B-BF0F-47A7-88B9-62CB1AD4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A31-7E26-4A5D-AAA7-517F75CF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80A-6493-4396-9454-881D8BAF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6616-BDD6-40CA-8E1A-AB78A7D7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1E0-6D23-4B61-AC91-10EE5DA4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E89-9FC6-4208-AA89-030B749C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8BA-01B1-4611-8F52-1B01BE68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A010-3937-4F23-80CE-53F931CE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7E7B-7C26-458A-B2A3-CE753540F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914400"/>
            <a:ext cx="739152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Comic Sans MS"/>
              </a:rPr>
              <a:t>¿Cuál es el tema básico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Comic Sans MS"/>
              </a:rPr>
              <a:t>¿Qué representa la obra de art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52815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38448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01064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514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5831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0773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522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9:00:17Z</dcterms:created>
  <dc:creator>Joann Gavigan</dc:creator>
  <dc:description/>
  <dc:language>en-US</dc:language>
  <cp:lastModifiedBy>Edison BOE</cp:lastModifiedBy>
  <dcterms:modified xsi:type="dcterms:W3CDTF">2004-10-05T12:10:22Z</dcterms:modified>
  <cp:revision>2</cp:revision>
  <dc:subject/>
  <dc:title>Slide 1</dc:title>
</cp:coreProperties>
</file>